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3.wmf" ContentType="image/x-wmf"/>
  <Override PartName="/ppt/media/image10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4.wmf" ContentType="image/x-wmf"/>
  <Override PartName="/ppt/media/image28.jpeg" ContentType="image/jpeg"/>
  <Override PartName="/ppt/media/image14.wmf" ContentType="image/x-wmf"/>
  <Override PartName="/ppt/media/image27.jpeg" ContentType="image/jpeg"/>
  <Override PartName="/ppt/media/image16.wmf" ContentType="image/x-wmf"/>
  <Override PartName="/ppt/media/image23.jpeg" ContentType="image/jpeg"/>
  <Override PartName="/ppt/media/image18.jpeg" ContentType="image/jpeg"/>
  <Override PartName="/ppt/media/image21.wmf" ContentType="image/x-wmf"/>
  <Override PartName="/ppt/media/image22.jpeg" ContentType="image/jpeg"/>
  <Override PartName="/ppt/media/image15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3706-C64F-4596-B32B-11236269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96A-F57A-4FC2-8991-D5BB55ED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F0A2-8DDB-47F0-B349-EA2F08D6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2A02-D25A-4479-93EA-44D2325D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D7FB-445E-408F-8E26-EFCD96F5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3328-CBB4-4E93-9C02-FC804CA8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C678-EF81-4459-B9B4-FF4C2350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E1E1-729B-4111-B76A-936F7383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523B-7890-4E42-9C84-E58B49CE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E01F-DC3F-470F-81A7-79E7A328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BC1B-7ABC-40D6-80AC-41A2DF74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C13-87AE-4A8C-AAE0-E7348CA6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B04D-7C94-4CB8-9E02-C2594EF2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76CC-7F9F-4B6E-88AA-16EDC779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DCCC-1A6D-4C40-98DD-F3C287DF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3578-7CEC-46B5-939B-86CB8B52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84F2-C474-4F7F-AC2A-9F017F7E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973-A11D-4AEB-AD6E-624CBCF2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48F7-A1A3-49D0-BE0F-D5807B3C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A67-B874-4013-A39F-AEA2164D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ACBF-BC0E-49B1-AAE0-D80A7B47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0DB-E1EE-4619-BE52-97F2B890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770-DD70-4D81-954A-B541DBDC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2688-765D-41B8-A58F-D4B59762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B2D2-5FC7-4838-87FD-DE783B56C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AA6B-63EB-4C26-8CF8-A69EC921B2D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4 -Day 7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ws of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s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the resistance of an object to changes in its motion due to a 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alar quant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 units are k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ewton’s Second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cceleration of an object is directly proportional to the net force acting on it and inversely proportional to its mas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 and a are both v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also be applied three-dimension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854360" y="3338640"/>
          <a:ext cx="3921120" cy="10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3338640"/>
                    <a:ext cx="392112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its of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 unit of force is a Newton (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 Customary unit of force is a pound (lb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N = 0.225 l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 table 4.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2286000" y="2666880"/>
                <a:ext cx="19810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≡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r Isaac Newt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642 – 172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ulated basic concepts and laws of mechan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versal Grav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ght and op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5029200" y="1854360"/>
            <a:ext cx="3987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vitational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tual force of attraction between any two obje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ressed by Newton’s Law of Universal Gravit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2209680" y="4235400"/>
                <a:ext cx="213372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eigh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gnitude of the gravitational force acting on an object of mas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near the Earth’s surface is called the weight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the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 = m 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special case of Newton’s Second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acceleration due to gra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an also be found from the Law of Universal Grav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weigh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ight i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 inherent property of an objec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s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 inherent proper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ight depends upon lo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ewton’s Third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object 1 and object 2 interact, the force exerted by object 1 on object 2 is equal in magnitude but opposite in direction to the force exerted by object 2 on object 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quivalent to saying a single isolated force cannot ex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2057400" y="4419720"/>
          <a:ext cx="1905120" cy="69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419720"/>
                    <a:ext cx="190512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ewton’s Third Law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y be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ce and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e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ually, either force can be the action or the reaction fo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ction and reaction forces act o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3962520" y="2220840"/>
            <a:ext cx="51051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y 8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annon ball is fired across a 1000m wide canyon with a horiz. Vel. of 100m/s. How far down the far wall will the cannon ball strik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test ch 1-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i Ho Silver!!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rse A (Appaloosa)leaves from point A and travels 30mph. Horse B (Arabian) leaves point A, 2 hours later traveling at 50 mph. When will they meet?? (is this a time problem?)(same directio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Action-Reaction Pai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rm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ce, the force the table exerts on the T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always perpendicular to the su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 reaction – the TV on the 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838080" y="2209680"/>
          <a:ext cx="14479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1447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6"/>
          <p:cNvGraphicFramePr/>
          <p:nvPr/>
        </p:nvGraphicFramePr>
        <p:xfrm>
          <a:off x="1219320" y="5257800"/>
          <a:ext cx="990360" cy="37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5257800"/>
                    <a:ext cx="99036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7"/>
          <p:cNvGraphicFramePr/>
          <p:nvPr/>
        </p:nvGraphicFramePr>
        <p:xfrm>
          <a:off x="1143000" y="2666880"/>
          <a:ext cx="23976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666880"/>
                    <a:ext cx="2397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8"/>
          <p:cNvGraphicFramePr/>
          <p:nvPr/>
        </p:nvGraphicFramePr>
        <p:xfrm>
          <a:off x="1219320" y="3657600"/>
          <a:ext cx="239760" cy="30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3657600"/>
                    <a:ext cx="2397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9"/>
          <p:cNvGraphicFramePr/>
          <p:nvPr/>
        </p:nvGraphicFramePr>
        <p:xfrm>
          <a:off x="1165320" y="4624560"/>
          <a:ext cx="347400" cy="30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65320" y="4624560"/>
                    <a:ext cx="3474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Picture 13" descr=""/>
          <p:cNvPicPr/>
          <p:nvPr/>
        </p:nvPicPr>
        <p:blipFill>
          <a:blip r:embed="rId11"/>
          <a:stretch/>
        </p:blipFill>
        <p:spPr>
          <a:xfrm>
            <a:off x="4191120" y="1981080"/>
            <a:ext cx="48765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ction-Reaction pai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280" y="2362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force the Earth exerts on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force the object exerts on the ear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457200" y="2382840"/>
          <a:ext cx="1600200" cy="5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82840"/>
                    <a:ext cx="16002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9"/>
          <p:cNvGraphicFramePr/>
          <p:nvPr/>
        </p:nvGraphicFramePr>
        <p:xfrm>
          <a:off x="838080" y="2819520"/>
          <a:ext cx="385920" cy="57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819520"/>
                    <a:ext cx="3859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0"/>
          <p:cNvGraphicFramePr/>
          <p:nvPr/>
        </p:nvGraphicFramePr>
        <p:xfrm>
          <a:off x="838080" y="3962520"/>
          <a:ext cx="385920" cy="57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962520"/>
                    <a:ext cx="3859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1"/>
          <p:cNvGraphicFramePr/>
          <p:nvPr/>
        </p:nvGraphicFramePr>
        <p:xfrm>
          <a:off x="1052640" y="5181480"/>
          <a:ext cx="1323720" cy="57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52640" y="5181480"/>
                    <a:ext cx="132372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Picture 13" descr=""/>
          <p:cNvPicPr/>
          <p:nvPr/>
        </p:nvPicPr>
        <p:blipFill>
          <a:blip r:embed="rId9"/>
          <a:stretch/>
        </p:blipFill>
        <p:spPr>
          <a:xfrm>
            <a:off x="3809880" y="1835280"/>
            <a:ext cx="51958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rces Acting on an Obj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ton’s Law uses the forces acting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acting on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acting on other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2" name="Object 6"/>
          <p:cNvGraphicFramePr/>
          <p:nvPr/>
        </p:nvGraphicFramePr>
        <p:xfrm>
          <a:off x="1600200" y="3581280"/>
          <a:ext cx="167652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581280"/>
                    <a:ext cx="167652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7"/>
          <p:cNvGraphicFramePr/>
          <p:nvPr/>
        </p:nvGraphicFramePr>
        <p:xfrm>
          <a:off x="1521000" y="4800600"/>
          <a:ext cx="1834920" cy="6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1000" y="4800600"/>
                    <a:ext cx="183492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Picture 9" descr=""/>
          <p:cNvPicPr/>
          <p:nvPr/>
        </p:nvPicPr>
        <p:blipFill>
          <a:blip r:embed="rId5"/>
          <a:stretch/>
        </p:blipFill>
        <p:spPr>
          <a:xfrm>
            <a:off x="5257800" y="1905120"/>
            <a:ext cx="2577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 of Newton’s Law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jects behave as part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ignore rotational motion (for no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sses of strings or ropes are neglig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ested only in the forces acting on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neglect reaction forc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ee Body Diagra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identify all the forces acting on the object of inter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oose an appropriate coordinate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the free body diagram is incorrect, the solution will likely be incorr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ee Body Diagram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461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   is the tension acting on the bo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nsion is the same at all points along the ro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the forces exerted by the earth and the grou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Object 7"/>
          <p:cNvGraphicFramePr/>
          <p:nvPr/>
        </p:nvGraphicFramePr>
        <p:xfrm>
          <a:off x="874800" y="4191120"/>
          <a:ext cx="1676160" cy="66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191120"/>
                    <a:ext cx="167616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5" name="Picture 8" descr=""/>
          <p:cNvPicPr/>
          <p:nvPr/>
        </p:nvPicPr>
        <p:blipFill>
          <a:blip r:embed="rId3"/>
          <a:stretch/>
        </p:blipFill>
        <p:spPr>
          <a:xfrm>
            <a:off x="4952880" y="2286000"/>
            <a:ext cx="3962520" cy="3846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4"/>
          <a:stretch/>
        </p:blipFill>
        <p:spPr>
          <a:xfrm>
            <a:off x="2590920" y="1981080"/>
            <a:ext cx="3445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ee Body Diagram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ly forces acting directly on the object are included in the free body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on forces act on other objects and so are not inclu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ction forces do not directly influence the object’s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lving Newton’s Second Law Problem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problem at least o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ra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 picture of the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object of primary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e forces with arr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ach 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labels that bring to mind the physical quantity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lving Newton’s Second Law Problem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ra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free body dia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dditional objects are involved, draw separate free body diagrams for each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oose a convenient coordinate system for each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pply Newton’s Second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x- and y-components should be taken from the vector equation and written separat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olv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the unknown(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ilibri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bject either at rest or moving with a constant velocity is said to be in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t force acting on the object is zero (since the acceleration is zero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5" name="Object 4"/>
          <p:cNvGraphicFramePr/>
          <p:nvPr/>
        </p:nvGraphicFramePr>
        <p:xfrm>
          <a:off x="2895480" y="5181480"/>
          <a:ext cx="1897200" cy="8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5181480"/>
                    <a:ext cx="189720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assical Mechanic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s the relationship between the motion of objects in our everyday world and the forces acting on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s when Classical Mechanics does not app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y tiny objects (&lt; atomic siz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s moving near the speed of l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ilibrium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sier to work with the equation in terms of its componen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could be extended to three dimen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2209680" y="3200400"/>
          <a:ext cx="4496040" cy="6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00400"/>
                    <a:ext cx="449604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ilibrium Example – Free Body Diagram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469800" y="2133720"/>
            <a:ext cx="821700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clined Plan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ose the coordinate system with x along the incline and y perpendicular to the inc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lace the force of gravity with its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4648320" y="1854360"/>
            <a:ext cx="43765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ultiple Objects – Example 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you have more than one object, the problem-solving strategy is applied to each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aw free body diagrams for each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y Newton’s Laws to each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ve the equ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ultiple Objects – Example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867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y 9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50 kg block rests on a 24 degree inclined plane. What force in Newtons pushes the block into the plane? What force in Newtons tries to move the block down the plan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rces of Fri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an object is in motion on a surface or through a viscous medium, there will be a resistance to the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due to the interactions between the object and its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resistance is called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i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Fri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iction is proportional to the normal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of static friction is generally greater than the force of kinetic fri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friction (µ) depends on the surfaces i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irection of the frictional force is opposite the direction of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s of friction are nearly independent of the area of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c friction acts to keep the object from mov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F increases, so does ƒ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F decreases, so does ƒ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ƒ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µ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5918040" y="76320"/>
            <a:ext cx="3149640" cy="64767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tic Friction, ƒ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Verdan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w to prove that Fs varies?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friction move an object by itself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happens if you push an object with a force less than Fs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ually think of a force as a push or pu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ctor quant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tact for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eld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ct forces result from physical contact between two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eld forces act between disconnected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called “action at a distanc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Kinetic Friction, ƒ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Verdana"/>
              </a:rPr>
              <a:t>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of kinetic friction acts when the object is in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ƒ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µ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ations of the coefficient with speed will be igno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6370560" y="152280"/>
            <a:ext cx="2773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lock on a Ramp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xes are rotated as usual on an inc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rection of impending motion would be down the pla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iction acts up the pla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poses the 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y Newton’s Laws and solve equ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6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52578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nect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bjec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y Newton’s Laws separately to each obje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gnitude of the acceleration of both objects will be the s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nsion is the same in each dia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 the simultaneous equ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7" descr=""/>
          <p:cNvPicPr/>
          <p:nvPr/>
        </p:nvPicPr>
        <p:blipFill>
          <a:blip r:embed="rId1"/>
          <a:stretch/>
        </p:blipFill>
        <p:spPr>
          <a:xfrm>
            <a:off x="5791320" y="1930320"/>
            <a:ext cx="252576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Connected Objec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ing the system as one object allows an alternative method or a che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nly external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the tension – it’s inter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ss is the mass of th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n’t tell you anything about any internal fo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ggs -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ve a 2 mass pulley problem where m1 = 25 kg, m2 = 15 kg by connected motion and compare to regular solutio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,6,8,12,15,19,26,27,30,38,40,4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llenge problem #5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d Day 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tact and Field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2362320" y="2133720"/>
          <a:ext cx="464796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133720"/>
                    <a:ext cx="464796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undamental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nuclear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magnetic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ak nuclear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field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ed in order of decreasing streng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gravity and electromagnetic in mechan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ewton’s First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bject moves with a velocity that is constant in magnitude and direction, unless acted on by a nonzero net 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t force is defined as the vector sum of all the external forces exerted on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xternal and Internal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rnal 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orce that results from the interaction between the object and its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nal fo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ces that originate within the object itse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cannot change the object’s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ertia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tendency of an object to continue in its original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6T16:02:25Z</dcterms:created>
  <dc:creator>Marilyn Akins</dc:creator>
  <dc:description/>
  <dc:language>en-US</dc:language>
  <cp:lastModifiedBy>gandella</cp:lastModifiedBy>
  <dcterms:modified xsi:type="dcterms:W3CDTF">2010-09-08T11:06:07Z</dcterms:modified>
  <cp:revision>43</cp:revision>
  <dc:subject/>
  <dc:title>Chapter 4</dc:title>
</cp:coreProperties>
</file>